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едмет: 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едавач: Душица Лази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ognosy and Phytochemistry</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ject of pharmacognosy (from the Greek words pharmacon – drug and gnosia – knowledge) and phytochemistry (from the Greek words phyton – plant and chemeia – chemistry) deals with the knowledge of natural products from plant origin exhibiting bioactivity. Pharmacognosy itself is generally regarded as the oldest of the pharmaceutical sciences and, since prehistoric times, the pharmacognost has been the person whose role it was in the society to identify crude drug materials, to assure the absence of adulteration and to diagnose and dispense an appropriate regimen. Nowadays, approximately 25% of prescriptions contain a plant-derived natural product, but in China, for example, about 8,000 plants species are utilized as medicinal agen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Language in Pharmacy Practice”, by Leontina Kern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ognos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tochem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ass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i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subject of pharmacognosy and phytochem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traditional pharmacognos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mary roles for phytochem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of-the-art techniques of pharmacognosy and phytochemist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word which is different from the others:</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ce       unavailability    omission        abs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estimate           assessment   disreg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opposition        assistance      hel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advancement   stagnation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general             inclusive         narr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demonstrate     hide                exhib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m             disordered        turbulent         storm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              keep                 express          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quer       overcome         defeat             fa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assurance        trust                diffidenc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the right preposition:</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isorders can be divided………..the organic and functio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pharmacologists base that the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tell this patient to write his name……..the bottom of the p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is activities were associated………..that important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limit your study……….twenty patients o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therapies refer……….severe mental disor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growth is reflected……….one’s sense of continued psychological growth and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cope……adversity may be crucial……..one’s heal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verbs in brackets into the Future Perfect or Future Perfect Continuous Tense:</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late. The meeting (start) by the time we get to the facul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May 5, 2015, we (attend) this course exactly for three ye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time next year, my friend (finish) his stud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rry up! She (go out) before you arrive t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12 o’clock, they (work) for ten ho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 all these exercises by no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rch 2017, this professor (teach) you for four ye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expect some of you (guess) the answer to that qu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Passive Voice sentences by using the words and phrases below:</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harmacies/build/in this area/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ward/for his invention/two years a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ive/a medicine box/tomorr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rug/approve/recently/by the bo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drugstore/well/supply/with antibio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can/release/from hospital/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реченице на енглески језик уз правилну употребу граматичких обл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4-30T13:43:38Z</dcterms:modified>
  <cp:revision>17</cp:revision>
  <dc:subject/>
  <dc:title>Slide 1</dc:title>
</cp:coreProperties>
</file>